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RICOCHET.WAV" ContentType="audio/x-wav"/>
  <Override PartName="/ppt/media/PROJCTOR.WAV" ContentType="audio/x-wav"/>
  <Override PartName="/ppt/media/CLAP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C92-DE38-4ADF-AE17-44713860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1F9-F65D-463E-A5D4-EA390ED4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A63-6AC6-485C-A3E3-344DD690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392-C7F0-48A1-9B36-EEFCD64B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4FF-C57B-49EE-B4FB-1B4144BC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6A5-C78A-4111-B9C4-0E97DCC3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800-3B8E-473C-AE95-01F20B05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B7E-2D46-4370-B913-43ED02DF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2B7-26D6-4973-8D5F-8491ECF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EA4-42CC-428E-9763-CDAB26B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5FE-AC98-4591-A36D-16465E62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28B-37C4-4B53-B49A-9643014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0F18-28E2-41F2-AAB2-8CE4AA8B0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162240" cy="346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53352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ws about Dinosaurs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3880"/>
            <a:ext cx="7924680" cy="319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af4f3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teresting Facts</a:t>
            </a:r>
            <a:endParaRPr b="0" lang="en-US" sz="2400" spc="1" strike="noStrike">
              <a:ln w="0">
                <a:noFill/>
              </a:ln>
              <a:solidFill>
                <a:srgbClr val="af4f3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8320" y="762120"/>
            <a:ext cx="7961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osaurs were discovered in the early 1800’s. Th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osaur means terrible liz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at time,many new ideas have replaced the old the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uch theory is that scientist thought dinosaurs were s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with the tails dragging the ground. Actually dinosa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very swift and they walked holding their tails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osaurs could be found in the air, in the water, or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osaurs were either meat-eaters or plant-e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429000" y="457200"/>
            <a:ext cx="181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Review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200" y="1641600"/>
            <a:ext cx="7014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hen was the first dinosaur discov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does the name dinosaur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ere dinosaurs slow or fast mo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d dinosaurs’ tails drag the gr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ame the three places dinosaurs can be found li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at did dinosaurs e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6002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t's all folks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8:38:45Z</dcterms:created>
  <dc:creator>Jefferson County Schools</dc:creator>
  <dc:description/>
  <dc:language>en-US</dc:language>
  <cp:lastModifiedBy>Jefferson County Schools</cp:lastModifiedBy>
  <cp:lastPrinted>1999-03-10T21:58:27Z</cp:lastPrinted>
  <dcterms:modified xsi:type="dcterms:W3CDTF">1999-03-11T14:38:03Z</dcterms:modified>
  <cp:revision>4</cp:revision>
  <dc:subject/>
  <dc:title>No Slide Title</dc:title>
</cp:coreProperties>
</file>